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525-DD95-4E33-B8EC-F16BD446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AD6-599D-4E28-AA71-23457FB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4C7-6A98-4D69-A689-FC3E2ABD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D4B-EB66-4519-92F4-2ADDA87F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8C8-ADCE-4960-A6F5-9EC84A2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A67-F75E-4517-8B92-DC3BA83C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492-4B5E-41A6-8450-812D0440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F9F-338D-4B9A-8465-645A6CF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A7C-5948-4FA3-BE89-879EAD6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9A3-54D1-4777-9E7D-08CC0ED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0B0-4CFD-44B7-84E4-6123C855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0F5-D84C-4F67-B3C2-7F4F70B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5DF-3482-415D-86A9-0B62044D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476280"/>
            <a:ext cx="77756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33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ктронные таблиц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33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364000" y="4508640"/>
            <a:ext cx="324036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ница 9А класс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ёдорова Анна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Night Thunder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NoName_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500720" cy="465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1557360"/>
            <a:ext cx="4643280" cy="25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0" y="4087800"/>
            <a:ext cx="4643280" cy="2770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Использование дополнительных</a:t>
            </a:r>
            <a:endParaRPr b="1" i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 </a:t>
            </a:r>
            <a:r>
              <a:rPr b="1" i="1" lang="ru-RU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возможностей </a:t>
            </a: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EXCEL</a:t>
            </a:r>
            <a:endParaRPr b="1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Copperplate Gothic Bold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в возможности программ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пришла к выводу, что в этой программе можно создавать чертежи, рисунки и т.д. , но это нецелесообразно! Програм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Exc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а для создания графиков и диаграмм, что следует из её опре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58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Угринович, информатика и информационные технологии 10-11, Бином, М.-2005, 511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58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Семакин, базовый курс 7-9, Бином, М.-2003, 390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58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Семакин, Е. Хеннер, задачник-практикум том 2, Бином, М.-2004, 278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58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библиотека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vikipedi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395280" y="189000"/>
            <a:ext cx="7991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7" descr="Герб школы"/>
          <p:cNvPicPr/>
          <p:nvPr/>
        </p:nvPicPr>
        <p:blipFill>
          <a:blip r:embed="rId2"/>
          <a:stretch/>
        </p:blipFill>
        <p:spPr>
          <a:xfrm>
            <a:off x="3132000" y="3284640"/>
            <a:ext cx="3608640" cy="3217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33cc"/>
                </a:solidFill>
                <a:uFillTx/>
                <a:latin typeface="Copperplate Gothic Bold"/>
              </a:rPr>
              <a:t>Электронные таблиц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Электронная таб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это программа для создания и использования документов с автоматическим расчетом вносимых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видEXCEL"/>
          <p:cNvPicPr/>
          <p:nvPr/>
        </p:nvPicPr>
        <p:blipFill>
          <a:blip r:embed="rId2"/>
          <a:stretch/>
        </p:blipFill>
        <p:spPr>
          <a:xfrm>
            <a:off x="3059280" y="2637000"/>
            <a:ext cx="5329080" cy="3997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0920" y="333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Exce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является самой мощной программой, предназначенной для работы с числовыми данными и представления их в графическом виде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3673440" cy="324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3606840" cy="3384360"/>
          </a:xfrm>
          <a:prstGeom prst="rect">
            <a:avLst/>
          </a:prstGeom>
          <a:ln w="6480">
            <a:solidFill>
              <a:srgbClr val="bbe0e3"/>
            </a:solidFill>
            <a:miter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48836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Создание и редактиров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ля создания диаграммы необход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632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321a"/>
                </a:solidFill>
                <a:latin typeface="Arial"/>
              </a:rPr>
              <a:t>Выделить объект, содержащий данные для ее постро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632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321a"/>
                </a:solidFill>
                <a:latin typeface="Arial"/>
              </a:rPr>
              <a:t>Нажать кнопку Мастер диаграмм на панели инструмен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632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321a"/>
                </a:solidFill>
                <a:latin typeface="Arial"/>
              </a:rPr>
              <a:t>Выбрать тип диаграммы из предлагаемого набор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632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321a"/>
                </a:solidFill>
                <a:latin typeface="Arial"/>
              </a:rPr>
              <a:t>Задать основные и дополнительные параметры диаграм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e6321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321a"/>
                </a:solidFill>
                <a:latin typeface="Arial"/>
              </a:rPr>
              <a:t>Разместить диаграмму (текущий либо отдельный лис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дактирование диаграммы производится с помощью команд контекстного меню, позволяющих изменять ее параметры: заголовки, легенду, подписи рядов и данных. Можно добавлять новые данные для построения диаграммы или удалять ранее построенные диа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476360" y="2133720"/>
          <a:ext cx="6769080" cy="383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133720"/>
                    <a:ext cx="676908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AutoShape 4"/>
          <p:cNvSpPr/>
          <p:nvPr/>
        </p:nvSpPr>
        <p:spPr>
          <a:xfrm>
            <a:off x="7093080" y="1413000"/>
            <a:ext cx="1828800" cy="71892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-18578"/>
              <a:gd name="adj5" fmla="val 225166"/>
              <a:gd name="adj6" fmla="val -336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бласть диаграммы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0" y="2781360"/>
            <a:ext cx="1649520" cy="1157400"/>
          </a:xfrm>
          <a:prstGeom prst="borderCallout2">
            <a:avLst>
              <a:gd name="adj1" fmla="val 18750"/>
              <a:gd name="adj2" fmla="val -8333"/>
              <a:gd name="adj3" fmla="val 9875"/>
              <a:gd name="adj4" fmla="val 142731"/>
              <a:gd name="adj5" fmla="val 97805"/>
              <a:gd name="adj6" fmla="val 1818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бласть построения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6732720" y="5229360"/>
            <a:ext cx="17524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0509"/>
              <a:gd name="adj5" fmla="val -213800"/>
              <a:gd name="adj6" fmla="val -166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Легенда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0" y="5373720"/>
            <a:ext cx="1733400" cy="97776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51282"/>
              <a:gd name="adj5" fmla="val -80032"/>
              <a:gd name="adj6" fmla="val 1994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си координат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1413000"/>
            <a:ext cx="2819520" cy="933480"/>
          </a:xfrm>
          <a:prstGeom prst="borderCallout2">
            <a:avLst>
              <a:gd name="adj1" fmla="val 18750"/>
              <a:gd name="adj2" fmla="val -8333"/>
              <a:gd name="adj3" fmla="val 12245"/>
              <a:gd name="adj4" fmla="val 126972"/>
              <a:gd name="adj5" fmla="val 164453"/>
              <a:gd name="adj6" fmla="val 1522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звание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диаграммы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356000" y="5877000"/>
            <a:ext cx="170028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105134"/>
              <a:gd name="adj5" fmla="val -113625"/>
              <a:gd name="adj6" fmla="val 105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Ряды данных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684360" y="2133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2124000" y="2133720"/>
            <a:ext cx="136836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 flipH="1">
            <a:off x="6732720" y="2133720"/>
            <a:ext cx="576000" cy="100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7308720" y="2133720"/>
            <a:ext cx="151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7020000" y="566100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 flipH="1" flipV="1">
            <a:off x="7884720" y="4653000"/>
            <a:ext cx="358920" cy="100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4500720" y="6597720"/>
            <a:ext cx="1511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V="1">
            <a:off x="6012000" y="4869000"/>
            <a:ext cx="28872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250920" y="6165720"/>
            <a:ext cx="165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 flipV="1">
            <a:off x="1908000" y="5013000"/>
            <a:ext cx="79236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1908000" y="5157720"/>
            <a:ext cx="1151280" cy="1008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250920" y="357336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2195640" y="3573360"/>
            <a:ext cx="100800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539640" y="333360"/>
            <a:ext cx="81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Элементы диаграммы</a:t>
            </a:r>
            <a:endParaRPr b="1" i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Гистограмма и линейная диаграм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случае определенным значениям соответствуют  либо вертикальные столбики, либо горизонтальные полоски различной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995640" y="3503520"/>
            <a:ext cx="4176720" cy="3354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0385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Точечная диаграм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56894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ечную диаграмму удобно использовать, когда необходимо проследить, как меняется одна величина,  в зависимости от другой. В общем виде – это  график зависим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y(x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им вы привыкли видеть его в математике или фи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940360" y="765000"/>
            <a:ext cx="2900520" cy="273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940360" y="4005360"/>
            <a:ext cx="2903760" cy="2433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Круговая диаграм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608120"/>
            <a:ext cx="446724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говая диаграмма представляет собой круг, разбитый на несколько секторов, каждый из которых соответствует определенному значению, входящему в суммарный показатель. При этом сумма всех значений принимается за 100 %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356000" cy="4608720"/>
          </a:xfrm>
          <a:prstGeom prst="rect">
            <a:avLst/>
          </a:prstGeom>
          <a:ln w="6480">
            <a:solidFill>
              <a:srgbClr val="bbe0e3"/>
            </a:solidFill>
            <a:miter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y=sin(x)/x"/>
          <p:cNvPicPr/>
          <p:nvPr/>
        </p:nvPicPr>
        <p:blipFill>
          <a:blip r:embed="rId2"/>
          <a:stretch/>
        </p:blipFill>
        <p:spPr>
          <a:xfrm>
            <a:off x="250920" y="1773360"/>
            <a:ext cx="3673440" cy="213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Функция Гаусса"/>
          <p:cNvPicPr/>
          <p:nvPr/>
        </p:nvPicPr>
        <p:blipFill>
          <a:blip r:embed="rId3"/>
          <a:stretch/>
        </p:blipFill>
        <p:spPr>
          <a:xfrm>
            <a:off x="5219640" y="1773360"/>
            <a:ext cx="3600360" cy="2031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АМК"/>
          <p:cNvPicPr/>
          <p:nvPr/>
        </p:nvPicPr>
        <p:blipFill>
          <a:blip r:embed="rId4"/>
          <a:stretch/>
        </p:blipFill>
        <p:spPr>
          <a:xfrm>
            <a:off x="179280" y="4056120"/>
            <a:ext cx="374508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y=x*sin(x)"/>
          <p:cNvPicPr/>
          <p:nvPr/>
        </p:nvPicPr>
        <p:blipFill>
          <a:blip r:embed="rId5"/>
          <a:stretch/>
        </p:blipFill>
        <p:spPr>
          <a:xfrm>
            <a:off x="5219640" y="4076640"/>
            <a:ext cx="3600360" cy="2511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611280" y="333360"/>
            <a:ext cx="79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Примеры графического</a:t>
            </a:r>
            <a:endParaRPr b="1" i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 </a:t>
            </a:r>
            <a:r>
              <a:rPr b="1" i="1" lang="en-US" sz="3800" spc="-1" strike="noStrike" u="sng">
                <a:solidFill>
                  <a:srgbClr val="0000ff"/>
                </a:solidFill>
                <a:uFillTx/>
                <a:latin typeface="Copperplate Gothic Bold"/>
              </a:rPr>
              <a:t>отображения данных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52:54Z</dcterms:created>
  <dc:creator>семья</dc:creator>
  <dc:description/>
  <dc:language>en-US</dc:language>
  <cp:lastModifiedBy>Vlad</cp:lastModifiedBy>
  <dcterms:modified xsi:type="dcterms:W3CDTF">2010-06-16T20:36:19Z</dcterms:modified>
  <cp:revision>17</cp:revision>
  <dc:subject/>
  <dc:title>Слайд 1</dc:title>
</cp:coreProperties>
</file>